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54F-B8B8-4CDB-958E-1348ACFF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151-4283-4E0D-84E8-3551765C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CD3-04E0-492D-B4F9-6E572FC1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6C9-6CE9-46EA-9419-2C2C04F9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7E0-25BD-458A-AF01-E69B299F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EE3-2B4D-4BBA-B4FC-D0C32FC4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82A-A116-4757-8DDF-0D3B041E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1CB-6F16-440C-9BA1-AB4C2F8F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4B1-8BEF-44A3-B285-03BB1F5B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A46-91E9-4B63-B944-C8AB08CC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776-F554-4931-BA69-8B7C827C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8BE-FF9D-4894-A66A-EB59A7DB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974D-1C50-4D18-8878-D71F91A194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2520" y="2362320"/>
            <a:ext cx="53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400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696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20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76201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5438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543800" cy="167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5438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848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3352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784872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3T15:19:53Z</dcterms:modified>
  <cp:revision>212</cp:revision>
  <dc:subject/>
  <dc:title>Slide 1</dc:title>
</cp:coreProperties>
</file>